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728-9709-44BE-B8F3-C415126F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683-3052-4C82-AA0B-D563E8C8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6C9-B85A-42EF-B7BA-29EB847D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583-245D-4618-8EA1-39CC9506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0BAE-F251-4C1E-8D01-7057CB57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A1D4-1705-4E0A-A96B-93C14F87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879B-1BA0-43AA-AD36-A362C86B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0ED8-863B-4AC8-87AE-EB9F9B99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8428-0480-46F3-B363-361A2ED1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7563-21FC-40C2-984C-85359045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A331-4B3B-48E8-B3AE-286F06B4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58A-CDC1-4C34-8F56-97B194F6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BCE5-1600-47BA-B205-B7C0B4E4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81DA-14A3-4316-A7EE-A55A3BB5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6F87-085B-40C5-AF16-9DB4B752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4395-AA35-4C1C-BC8C-3CEEAC14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3BB1-CFA8-4BD2-BA81-202A54EA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6BF-C482-4725-B747-0889F447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60F-6929-45F6-919B-3E9B93DE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E5B-97FD-4B52-AE91-1A5AA6B7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5D0-1A46-4504-BD19-D6F29D81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054-3279-4F6A-AD6A-B4514726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ED3-0BF8-48B6-A88E-452894DB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33C-2B98-425B-84DA-7017D6B9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C399-760C-4440-9C2B-635F1A674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DB02-6749-45C0-A650-CF9CC1E7C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531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bt’s Danger Sig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7772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Paying 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Know the Total of All Your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Cards are Near the Li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New Debt to Pay Off Old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Payments are the Rule Rather than the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Mailbox is Full, with Past Due No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on’t Think You Can Exist Without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SGNDG121" descr=""/>
          <p:cNvPicPr/>
          <p:nvPr/>
        </p:nvPicPr>
        <p:blipFill>
          <a:blip r:embed="rId1"/>
          <a:stretch/>
        </p:blipFill>
        <p:spPr>
          <a:xfrm>
            <a:off x="7086600" y="1676520"/>
            <a:ext cx="1541520" cy="265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redit%20Card%20Statement" descr=""/>
          <p:cNvPicPr/>
          <p:nvPr/>
        </p:nvPicPr>
        <p:blipFill>
          <a:blip r:embed="rId1"/>
          <a:stretch/>
        </p:blipFill>
        <p:spPr>
          <a:xfrm>
            <a:off x="-228600" y="-609480"/>
            <a:ext cx="9372600" cy="1112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s To Get Out of Deb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It As a G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t Up Most of the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 With the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 Off Low Balance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Using Debt to Buy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ir Don’t Re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t it, You’ve Got a Debt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e01616_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3087720" cy="289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eps to Get Out of Deb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Up On Some 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Buying New, Bu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All of Your Exp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a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ll Raises for Debt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a Tight Fisted Consu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“Extras” and Entertai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Bondage of Deb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1" name="NA0675" descr=""/>
          <p:cNvPicPr/>
          <p:nvPr/>
        </p:nvPicPr>
        <p:blipFill>
          <a:blip r:embed="rId1"/>
          <a:stretch/>
        </p:blipFill>
        <p:spPr>
          <a:xfrm>
            <a:off x="2131920" y="1371600"/>
            <a:ext cx="5011920" cy="514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1143000" y="838080"/>
          <a:ext cx="7467480" cy="5664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838080"/>
                    <a:ext cx="746748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y Off Your Charge Car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Where Can WE Earn 18 to 23 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Payments Can Take Up to 3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Money From All Sources to P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t-Em Up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s00882_" descr=""/>
          <p:cNvPicPr/>
          <p:nvPr/>
        </p:nvPicPr>
        <p:blipFill>
          <a:blip r:embed="rId1"/>
          <a:stretch/>
        </p:blipFill>
        <p:spPr>
          <a:xfrm>
            <a:off x="4952880" y="2141640"/>
            <a:ext cx="3733920" cy="333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liminate All Consumer Deb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4267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Off the Stereo, Appliance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u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Buy New on Cr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Off The Car and Keep Making the Pay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Without for a Wh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’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nly buy with cash (per your budg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bd06961_" descr=""/>
          <p:cNvPicPr/>
          <p:nvPr/>
        </p:nvPicPr>
        <p:blipFill>
          <a:blip r:embed="rId1"/>
          <a:stretch/>
        </p:blipFill>
        <p:spPr>
          <a:xfrm>
            <a:off x="4952880" y="1987560"/>
            <a:ext cx="3733920" cy="36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71840" y="1604880"/>
            <a:ext cx="40003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50828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8120" y="1460520"/>
            <a:ext cx="30477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0658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4824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36600" y="1228680"/>
            <a:ext cx="84693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bt’s Danger Sig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rbs 22: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ch ruleth over the poor, and the borrower is servant to the lend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d14538_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68580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1:04:13Z</dcterms:created>
  <dc:creator>Mike O'Mara</dc:creator>
  <dc:description/>
  <dc:language>en-US</dc:language>
  <cp:lastModifiedBy>Mike Omara</cp:lastModifiedBy>
  <dcterms:modified xsi:type="dcterms:W3CDTF">2006-11-03T21:02:34Z</dcterms:modified>
  <cp:revision>13</cp:revision>
  <dc:subject/>
  <dc:title>Debt's Danger Sig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01484253</vt:r8>
  </property>
  <property fmtid="{D5CDD505-2E9C-101B-9397-08002B2CF9AE}" pid="3" name="_AuthorEmail">
    <vt:lpwstr>zoe.finlay@campingandcaravanningclub.co.uk</vt:lpwstr>
  </property>
  <property fmtid="{D5CDD505-2E9C-101B-9397-08002B2CF9AE}" pid="4" name="_AuthorEmailDisplayName">
    <vt:lpwstr>Zoe Finlay</vt:lpwstr>
  </property>
  <property fmtid="{D5CDD505-2E9C-101B-9397-08002B2CF9AE}" pid="5" name="_EmailSubject">
    <vt:lpwstr>Hi</vt:lpwstr>
  </property>
  <property fmtid="{D5CDD505-2E9C-101B-9397-08002B2CF9AE}" pid="6" name="_ReviewingToolsShownOnce">
    <vt:lpwstr/>
  </property>
</Properties>
</file>